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B90-C1BF-4E36-A30E-EA0D7450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6B9-1CA1-4FCF-AE43-8D1A8691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C16-3D04-43BB-AE0E-80A44C87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7EB-AFCE-4164-9D52-E6D762D6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EE62-E3A9-4F1A-8100-8A68212F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6F27-B138-4757-8488-7ED1666F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2E1B-B668-484E-AABD-EB8D7CFC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7450-C10F-49AF-8213-0F363EC1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EB99-1E22-4809-978A-454E495C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0607-A35B-4D3F-80E1-C99191D6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C9D4-AE85-43B6-81B9-D9761C27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BC2-1091-4894-9F1B-4E4415C3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A727-92BE-4A74-9B9E-84574AD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7F4C-620C-4F5D-B7D2-A958BA59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81DD-5607-4E37-9F4A-2BF39EA5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BC51-E11E-4BD1-A955-8E21B13C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F741-6D5B-45F6-A001-F3D86C03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B5F-FC0D-4897-96A1-6985E123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EF4-6B8F-4B68-9A0B-77BB58A8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A1E-0D49-4A1A-9BC4-4DF0CC63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FE7-1DFE-46D8-916A-CFD89729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AA0-5E45-4A56-81B8-1A2AA172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85D-7B1D-4F67-836E-51F3AD5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881-CD8F-48E3-AF44-956827A5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80808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b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80808"/>
              </a:gs>
              <a:gs pos="100000">
                <a:srgbClr val="ffb4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8080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80808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b445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B9BA-F90A-46B6-BE8D-3D259E78CF36}" type="slidenum">
              <a:rPr b="0" lang="pt-BR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b4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80808"/>
                  </a:gs>
                  <a:gs pos="100000">
                    <a:srgbClr val="ffb4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80808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8080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BA8E-A0C1-4C8A-AA58-0EE8E2780B1F}" type="slidenum">
              <a:rPr b="0" lang="pt-BR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0"/>
            <a:ext cx="2362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9900"/>
                </a:solidFill>
                <a:latin typeface="Arial Black"/>
              </a:rPr>
              <a:t>B</a:t>
            </a:r>
            <a:r>
              <a:rPr b="1" lang="en-US" sz="3600" spc="-1" strike="noStrike">
                <a:solidFill>
                  <a:srgbClr val="ff9900"/>
                </a:solidFill>
                <a:latin typeface="Arial Black"/>
              </a:rPr>
              <a:t>mob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162920" y="0"/>
            <a:ext cx="1752480" cy="205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Chonker"/>
              </a:rPr>
              <a:t>km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438280"/>
            <a:ext cx="858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Unicode MS"/>
              </a:rPr>
              <a:t>Русская Ассоциация Директ Маркетинг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Unicode MS"/>
              </a:rPr>
              <a:t>ДМарафо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Unicode MS"/>
              </a:rPr>
              <a:t>Наталья Вихре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4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Oracle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Финансовый сектор </a:t>
            </a:r>
            <a:br>
              <a:rPr sz="28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ГИД по клиентам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Oracle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Продукт для обслуживания баз данных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. Цель проведения кампании: Назначение встреч с директорами финансового сектора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 Труднодоступность потенциального клиента.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. Целевая аудитория: Директора банков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. Предложение: встреча с представителем компан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7. Оформление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3d DM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Предварительный телемаркетинг, производство, рассылка, активный телемаркетинг, возврат недостающего набора шахматных фигур при встрече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9. Обратная связь: выделенная линия специально для кампан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Фактический 40 000 долларов США  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Планируемый  40 000 долларов США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Рентабельность Средняя цена установки такого продукта превышает 1 миллион долларов и один контракт уже был подписан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1. Результат проекта: Были назначены встречи с 40% человек от общего количеств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 01.03.2005 по 30.06.2005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Специально разработанный набор шахмат удивляет не только точностью передачи концепции унифицирования баз данных посредством разнокалиберных фигур на доске, но и дизайном и качеством. Вторую часть набора шахматных фигур клиент получает при встрече из рук представителя кампании Оракл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 нет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5.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HP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Серверы </a:t>
            </a: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Proliant DL</a:t>
            </a: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 585</a:t>
            </a:r>
            <a:br>
              <a:rPr sz="3200"/>
            </a:b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Трудно работать с системой, у которой нет будущего</a:t>
            </a:r>
            <a:r>
              <a:rPr b="1" lang="pt-BR" sz="2400" spc="-1" strike="noStrike">
                <a:solidFill>
                  <a:srgbClr val="ff9933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1657080" cy="1359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48320" y="2438280"/>
            <a:ext cx="140472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324480" y="24382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191120" y="4230720"/>
            <a:ext cx="2952720" cy="221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5.</a:t>
            </a: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HP </a:t>
            </a:r>
            <a:br>
              <a:rPr sz="28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Серверы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ProLiant</a:t>
            </a: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DL 585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P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Серверы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roLiant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. Цель проведения кампании: Повышение интереса к продукту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Заставить людей почувствовать, как трудно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работать с системой, у которой нет будущего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. Целевая аудитория: директор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. Предложение: Доступные по цене серверы на базе производительных процессорах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Opteron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7. Оформление: 3Д ДМ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 Производство, рассылка, пассивный телемаркетинг, регистрация на сайте, активный телемаркетинг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9. Обратная связь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call-center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, сайт компан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Фактический   30 000 долларов США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Планируемый  30 000 долларов США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Рентабельность Один проданный сервер окупает кампанию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1. Результат проекта: Шесть переговоров ведутся и одни уже закончены подписанием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 01.03.2005 по 30.06.2005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Сильное воздействие этой кампании обусловлено реальным ощущением невозможности воспользоваться содержимым запертой на замок коробочки, которое сродни ощущению лимитированности старой системы. . Что бы открыть замок, клиенту предлагается воити за сайт компании, зарегистрироваться и получить код, воспользовавшись персональным номером, указанным в письме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нет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6.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Microsoft –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Красные клиенты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Мы хотим поговорить с Вами о деньгах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4267080" y="3962520"/>
            <a:ext cx="3041640" cy="2280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8136" t="0" r="6367" b="0"/>
          <a:stretch/>
        </p:blipFill>
        <p:spPr>
          <a:xfrm>
            <a:off x="1447920" y="23623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410080" y="236232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>
            <a:lum contrast="48000"/>
          </a:blip>
          <a:srcRect l="8136" t="10838" r="10425" b="7789"/>
          <a:stretch/>
        </p:blipFill>
        <p:spPr>
          <a:xfrm>
            <a:off x="3429000" y="25146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6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Microsoft</a:t>
            </a:r>
            <a:endParaRPr b="0" lang="en-US" sz="3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1) Название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icrosoft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Windows Small Business Server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. Цель проведения кампании: Стимулировать покупку лицензионного обеспечения, а не пиратского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 Донести необходимость платить за товар, которым уже пользуются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. Целевая аудитория:Директора малых и средних компаний, пользующиеся пиратским продуктом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. Предложение: Специальная сниженная цен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7. Оформление: 3Д ДМ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Производство, рассылка, пассивный телемаркетинг для открытия замка, активный телемаркетинг для продаж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9. Обратная связь: выделенная для этой кампании линия нашего кол-центр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Фактический не разглашается  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Планируемый не разглашаетс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Рентабельность 250%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1. Результат проекта: Повышение симпатии к Майкрософт и изменения представление о предлагаемом продукте, как о комплексном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01.04.2005 по 30.06.2005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Эта кампания ставила целью установить длительные отношения с клиентом и донести до него выгодность таких отношений. Фраза на коробке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«Майкрософт не хочет, что бы Вы теряли свои деньги» ярко иллюстрируется кошельком, закрытым на замок, что дает дополнительные возможности для телемаркетинга и повышает любопытство клиента. Внутри кошелька, клиент находит визитку сотрудника Майкрософт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нет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162920" y="0"/>
            <a:ext cx="1752480" cy="205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Chonker"/>
              </a:rPr>
              <a:t>km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57400"/>
            <a:ext cx="932976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Unicode MS"/>
              </a:rPr>
              <a:t>Презентация содержит описания 6 ДМ-кампаний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Unicode MS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Ora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H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Ora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H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Unicode MS"/>
              </a:rPr>
              <a:t>Кампании 1, 3 и 6 соревнуются в категории ном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Unicode MS"/>
              </a:rPr>
              <a:t>2, стимулирование покупок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Unicode MS"/>
              </a:rPr>
              <a:t>И кампании 2, 4 и 5 в категории 1, вовлечение в диало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1.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Symantec</a:t>
            </a:r>
            <a:br>
              <a:rPr sz="3200"/>
            </a:b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Это не</a:t>
            </a: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 software,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это </a:t>
            </a: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 hardware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157560" cy="2468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3252960" cy="238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2057400" cy="151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1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Symantec</a:t>
            </a:r>
            <a:endParaRPr b="0" lang="en-US" sz="3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Адрес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Trubnaya 1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Dmitri Dmianov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) Руководитель проекта: 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Natalia Vikhreva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Symantec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ateWay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curity Appliance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устройство сетевой защиты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. Цель проведения кампании: Повышение интереса к продукту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Symantec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знаком на рынке, как производитель программного обеспечения, но этот продукт – первый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ardware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этой компан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. Целевая аудитория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00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CFOs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. Предложение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Бесплатное тестирование продукт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7. Оформление: Обычный рекламный буклет был прикручен винтиками к жесткой основе. На месте сгиба использовались металлические петли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 производство, рассылка, активный телемаркетинг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9. Обратная связь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call-center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Фактический 10 000 долларов США  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Планируемый 10 000 долларов США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Рентабельность 280%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1. Результат проекта: продажи продукта по результатам кампании составили 28 000 долларов СШ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01.09.2004 по 30. 10. 2004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Главный фактор кампании, удивить клиента, креативным способом подчеркнув разницу между мягкой бумагой буклета и стилем ее оформления, как нечто жесткое. Таким образом обращая внимание клиента на тот факт, что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ymantec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выпустил первый продукт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ardwere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 нет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2.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Oracle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Государственный сектор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Приглашение на чай и к сотрудничеству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1968480" cy="1409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3517920" cy="2655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19112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2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Oracle   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Приглашение на чай и к сотрудничеству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9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Oracle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ERP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. Цель проведения кампании: Назначение встреч с администрацией гос. организаций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 Начать диалог не о технологиях, но о бизнесе.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5. Целевая аудитория: Руководители гос. структур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6. Предложение: встреча с представителем компании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7. Оформление: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3d DM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Предварительный телемаркетинг, производство, рассылка, активный телемаркетинг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9. Обратная связь: выделенная линия специально для кампании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Фактический 40 000 долларов США    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Планируемый  40 000 долларов США 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Рентабельность Средняя цена установки такого продукта превышает 1 миллион долларов и один контракт уже был подписан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1. Результат проекта: Были назначены встречи с 25% человек от общего количества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 10.01.2005 по 30.03.2005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Оригинальная и дружелюбная форма установить контакт для диалога о возможностях сотрудничества, а не о технологиях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 нет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3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HP</a:t>
            </a: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 ProLiant DL 145</a:t>
            </a:r>
            <a:br>
              <a:rPr sz="3200"/>
            </a:b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Трудно перевернуть страницу Вашей системы</a:t>
            </a:r>
            <a:r>
              <a:rPr b="1" lang="pt-BR" sz="2400" spc="-1" strike="noStrike">
                <a:solidFill>
                  <a:srgbClr val="ff9933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105520" y="22096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295280" y="365760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200400" y="3657600"/>
            <a:ext cx="1871640" cy="140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3.</a:t>
            </a:r>
            <a:br>
              <a:rPr sz="2800"/>
            </a:br>
            <a:r>
              <a:rPr b="1" lang="pt-BR" sz="2800" spc="-1" strike="noStrike">
                <a:solidFill>
                  <a:srgbClr val="ff9933"/>
                </a:solidFill>
                <a:latin typeface="Tahoma"/>
              </a:rPr>
              <a:t>HP Proliant DL 145</a:t>
            </a:r>
            <a:br>
              <a:rPr sz="28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Трудно работать с системой, у которой нет будущего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9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  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HP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Серверы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ProLiant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. Цель проведения кампании: Повышение интереса к продукту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Заставить людей почувствовать, как трудно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работать с системой, у которой нет будущего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5. Целевая аудитория: менеджеры, ответственные за закупку ИТ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6. Предложение: Доступные по цене серверы на базе производительных процессорах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Opteron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7. Оформление: Ламинированный буклет с липучкой между страниц, с тем, что бы усложнить раскрытие.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 Производство, рассылка, пассивный телемаркетинг, активный телемаркетинг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9. Обратная связь: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all-center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Фактический   18 000 долларов США  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Планируемый  18 000 долларов США 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Рентабельность 150%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1. Результат проекта: Повышение осведомленности о продукте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 01.03.2005 по 30.06.2005 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Особенность этой кампании, это реальное тактильное ощущение сопротивления при открытии, которое призвано передать идею трудности работы с необновляемой системой.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нет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4.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Oracle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Финансовый сектор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Создайте ГИД по клиентам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rot="20847000">
            <a:off x="541440" y="4231800"/>
            <a:ext cx="2209680" cy="212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8136" t="0" r="14503" b="0"/>
          <a:stretch/>
        </p:blipFill>
        <p:spPr>
          <a:xfrm>
            <a:off x="2057400" y="2362320"/>
            <a:ext cx="1447920" cy="140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886200" y="236232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867280" y="228600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095880" y="464832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rcRect l="16292" t="0" r="6367" b="0"/>
          <a:stretch/>
        </p:blipFill>
        <p:spPr>
          <a:xfrm>
            <a:off x="4343400" y="4648320"/>
            <a:ext cx="1447920" cy="140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46:08Z</dcterms:created>
  <dc:creator>Kleber Vianna</dc:creator>
  <dc:description/>
  <dc:language>en-US</dc:language>
  <cp:lastModifiedBy>editor</cp:lastModifiedBy>
  <dcterms:modified xsi:type="dcterms:W3CDTF">2005-09-12T07:51:00Z</dcterms:modified>
  <cp:revision>29</cp:revision>
  <dc:subject/>
  <dc:title>Bmobile wireless entertainment</dc:title>
</cp:coreProperties>
</file>